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AFF6-F832-4A8E-8D77-CA1C7A71E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8E9F-907C-42C4-B888-F8931A110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E373-B3BD-419B-AA15-D9FD72C12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143A-B54F-482E-9516-C8C81F86C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6981-A2F1-4624-8817-A51361879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0DF3-62C5-4A84-9E86-C56C3430D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E4DC-4969-423E-8A4B-3BEFD587C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62B5-ED4C-4581-B430-04CE94876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2AD5-0337-40B7-BFA6-FE0E3461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A456-1CD0-4265-AF57-FD058641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7AB0-50A3-441E-8E81-2C199618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20DE-B3F0-437B-A492-C1D0E2F6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7F3AF-DC24-4A08-83A1-10D1EA87702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0" y="4680"/>
            <a:ext cx="9159840" cy="835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250920" y="5130720"/>
            <a:ext cx="8569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ه تعالى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10" descr=""/>
          <p:cNvPicPr/>
          <p:nvPr/>
        </p:nvPicPr>
        <p:blipFill>
          <a:blip r:embed="rId3"/>
          <a:stretch/>
        </p:blipFill>
        <p:spPr>
          <a:xfrm>
            <a:off x="1908000" y="907920"/>
            <a:ext cx="7110720" cy="606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"/>
          <p:cNvPicPr/>
          <p:nvPr/>
        </p:nvPicPr>
        <p:blipFill>
          <a:blip r:embed="rId4"/>
          <a:stretch/>
        </p:blipFill>
        <p:spPr>
          <a:xfrm>
            <a:off x="1306440" y="2276640"/>
            <a:ext cx="7515360" cy="534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"/>
          <p:cNvPicPr/>
          <p:nvPr/>
        </p:nvPicPr>
        <p:blipFill>
          <a:blip r:embed="rId5"/>
          <a:stretch/>
        </p:blipFill>
        <p:spPr>
          <a:xfrm>
            <a:off x="2138400" y="4581360"/>
            <a:ext cx="6754680" cy="62244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179280" y="2852640"/>
            <a:ext cx="856944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ه تعالى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عنوان 1"/>
          <p:cNvSpPr/>
          <p:nvPr/>
        </p:nvSpPr>
        <p:spPr>
          <a:xfrm>
            <a:off x="179280" y="1585800"/>
            <a:ext cx="8569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تحية أهل الجنة بعضهم لبعض كلام سالم من اللغو والآثا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13" descr=""/>
          <p:cNvPicPr/>
          <p:nvPr/>
        </p:nvPicPr>
        <p:blipFill>
          <a:blip r:embed="rId6"/>
          <a:stretch/>
        </p:blipFill>
        <p:spPr>
          <a:xfrm>
            <a:off x="324000" y="3699000"/>
            <a:ext cx="8496000" cy="666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"/>
          <p:cNvPicPr/>
          <p:nvPr/>
        </p:nvPicPr>
        <p:blipFill>
          <a:blip r:embed="rId7"/>
          <a:stretch/>
        </p:blipFill>
        <p:spPr>
          <a:xfrm>
            <a:off x="395280" y="6148440"/>
            <a:ext cx="8496360" cy="6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131"/>
          <a:stretch/>
        </p:blipFill>
        <p:spPr>
          <a:xfrm>
            <a:off x="539640" y="1844640"/>
            <a:ext cx="8136000" cy="35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14400"/>
            <a:ext cx="9144000" cy="1276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95480" y="4746600"/>
            <a:ext cx="3353040" cy="4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179280" y="969840"/>
            <a:ext cx="8785440" cy="5772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0" y="4680"/>
            <a:ext cx="9159840" cy="8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9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713800" cy="4681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"/>
          <p:cNvPicPr/>
          <p:nvPr/>
        </p:nvPicPr>
        <p:blipFill>
          <a:blip r:embed="rId2"/>
          <a:stretch/>
        </p:blipFill>
        <p:spPr>
          <a:xfrm>
            <a:off x="0" y="907920"/>
            <a:ext cx="9159840" cy="86544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50920" y="4653000"/>
            <a:ext cx="496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بع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187200" y="6014880"/>
            <a:ext cx="49690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ن دلائل وحدانيتنا تاركون النظر فيه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95280" y="1052640"/>
            <a:ext cx="4176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يان صدق الإسلا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3"/>
          <a:stretch/>
        </p:blipFill>
        <p:spPr>
          <a:xfrm>
            <a:off x="0" y="4680"/>
            <a:ext cx="9159840" cy="835200"/>
          </a:xfrm>
          <a:prstGeom prst="rect">
            <a:avLst/>
          </a:prstGeom>
          <a:ln w="0">
            <a:noFill/>
          </a:ln>
        </p:spPr>
      </p:pic>
      <p:sp>
        <p:nvSpPr>
          <p:cNvPr id="56" name="عنوان 1"/>
          <p:cNvSpPr/>
          <p:nvPr/>
        </p:nvSpPr>
        <p:spPr>
          <a:xfrm>
            <a:off x="250920" y="5372280"/>
            <a:ext cx="49687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دل الآخرة لإنكارهم لها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1484280"/>
            <a:ext cx="8665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قبال على الدنيا والانهماك في طلبها حتى تكون أكبر الهم ومبلغ العلم دون التفات إلى إرضاء الرب أو استعداد للآخر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ذر منه الإسل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27160" y="2492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اغترار بحال الكفار الذين قصروا هممهم على الدنيا ولم يفكروا بالآخرة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ا يجو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79280" y="314172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غفلة والإعراض عن التفكر بآيات الله الكونية والتدبر لآياته القرآني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حذر منه الإسلا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378936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عمل الصالح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179280" y="4437000"/>
            <a:ext cx="8666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رد على من زعم أن تصديق القلب كاف للفلاح في الآخر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 الله ذكر أنه يهدي من آمن وعمل صالحاً إلى الجن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108000" y="53006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طريق الإنسان إلى الجنة هو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يمان والعمل الصال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08000" y="58770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هداية بيد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0" y="4680"/>
            <a:ext cx="9159840" cy="8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هداية بيد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بد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2716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رغب في الإيمان وحرص على العمل الصالح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هداه الله وثب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249228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مال نعيم أهل الجنة لاشتماله ع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نعيم القلب ونعيم الروح ونعيم البد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314172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كمال نعيم أهل الجن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قوله تعالى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179280" y="4149720"/>
            <a:ext cx="8666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كاليف على أهل الجن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توج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108000" y="472428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بادة أهل الجنة في الجن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تسبيح والسلام والتحمي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108000" y="53006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لهم أهل الجنة التسبيح والسلام والتحميد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 غير كلفة ولا مشق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1"/>
          <a:stretch/>
        </p:blipFill>
        <p:spPr>
          <a:xfrm>
            <a:off x="0" y="4680"/>
            <a:ext cx="9159840" cy="835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1098720" y="3611520"/>
            <a:ext cx="7762680" cy="46512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108000" y="58118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ثمرة التسبيح والسلام والتحميد لأهل الجن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تطمئن قلوبهم وتفرح أرواح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108000" y="624348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تحية أهل الجنة بعضهم لبعض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كلام سالم من اللغو والآثا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0" y="4680"/>
            <a:ext cx="9159840" cy="835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30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3"/>
          <a:stretch/>
        </p:blipFill>
        <p:spPr>
          <a:xfrm>
            <a:off x="304920" y="1557360"/>
            <a:ext cx="86598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4T14:44:43Z</dcterms:modified>
  <cp:revision>1926</cp:revision>
  <dc:subject/>
  <dc:title>عرض تقديمي في PowerPoint</dc:title>
</cp:coreProperties>
</file>